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6381584"/>
        <c:axId val="54597527"/>
      </c:barChart>
      <c:catAx>
        <c:axId val="9638158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597527"/>
        <c:crosses val="autoZero"/>
        <c:auto val="1"/>
        <c:lblAlgn val="ctr"/>
        <c:lblOffset val="100"/>
        <c:noMultiLvlLbl val="0"/>
      </c:catAx>
      <c:valAx>
        <c:axId val="5459752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38158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D58C1-45A6-4518-B0B6-92816A6A6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EF514-6202-4739-98CF-DB4594567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A2877-F430-4D67-B43F-2FAF93A96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3512E-4B41-4D70-B068-BA8787C6A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9EF5A-F2D6-4EAF-8378-E8CDE7FC7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2F37E-1738-4794-B4B3-C36C12C91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553DC-5193-42E0-9E3A-8659D36AD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D1CDD-16BA-44F3-9E7A-B2F3BB98A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43AFD-8BD7-4AD0-B6D6-0A5C684A1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EDF17-5121-4724-8F68-1C7500515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ACA92-DECA-4F5F-8FD3-B89653172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377D9-72B4-4B1F-9AE8-1D4903005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428C8A-3DF2-42A9-8FAF-0D9A262FEC2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