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26222"/>
        <c:axId val="55580700"/>
      </c:barChart>
      <c:catAx>
        <c:axId val="7602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80700"/>
        <c:crosses val="autoZero"/>
        <c:auto val="1"/>
        <c:lblAlgn val="ctr"/>
        <c:lblOffset val="100"/>
        <c:noMultiLvlLbl val="0"/>
      </c:catAx>
      <c:valAx>
        <c:axId val="55580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F85-8E5E-48D9-9053-A0C387F8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EAE-8C54-4ADF-A0A6-6DA0DC5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924-A4DC-4479-A59F-7690B11D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01B-E1F8-4B50-90DB-1C360EF6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5F6-486B-4941-B480-978DEF6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C1D-E781-4879-BF93-F65BAAD0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938-30F7-4B30-A2D4-4955A31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3B1-9615-43D1-B8C8-FEF5DBCA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22B-5B2E-43EE-A22B-4115526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E7C-CE31-4A8D-838F-CE31026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41A-E8EE-4C74-8064-D7A6EB7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E1E-ECC1-46E6-B457-026E4DE7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594FE-C18A-44AE-B765-3B6CD3532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