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73856"/>
        <c:axId val="86554796"/>
      </c:barChart>
      <c:catAx>
        <c:axId val="4307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54796"/>
        <c:crosses val="autoZero"/>
        <c:auto val="1"/>
        <c:lblAlgn val="ctr"/>
        <c:lblOffset val="100"/>
        <c:noMultiLvlLbl val="0"/>
      </c:catAx>
      <c:valAx>
        <c:axId val="86554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4D3-D572-4AD8-B089-40972387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E24-462D-46EE-AF93-F81E48C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533-E392-4514-A10D-2607E61A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9AB-DDD5-4D58-AA1B-2C3FE45A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845-EF7A-409F-9678-6996FA0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BE6-66A3-4457-BE8D-ED677EA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159-851C-4269-9C3F-6CA6F61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FDB-0E82-4440-AEA7-04AE0FAA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EBF-3335-4056-8BC4-8C70DC05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BBC-F681-404A-8F24-8F1457A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B9D-463A-4ED4-9200-7761089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107-3439-42B6-A878-5C8BB16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03650-01C6-4EA3-B4C4-709CEF35CC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