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57113"/>
        <c:axId val="96658704"/>
      </c:barChart>
      <c:catAx>
        <c:axId val="88857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58704"/>
        <c:crosses val="autoZero"/>
        <c:auto val="1"/>
        <c:lblAlgn val="ctr"/>
        <c:lblOffset val="100"/>
        <c:noMultiLvlLbl val="0"/>
      </c:catAx>
      <c:valAx>
        <c:axId val="96658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7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905-0A2C-466A-887B-2D36F6F6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5C0-3FC5-4D00-82E6-ACE52188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F0E-CBF1-4DF9-AF2B-CF1A6AC7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ECE4-1252-4E77-A57C-9BA09B25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C87-1D81-41B5-BFEA-A715222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981-0238-415D-AF4F-3A45C61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CA0-003E-4EA1-9D3B-61810EE4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87C-A5F2-4067-B8F5-7DD534BF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11F-09FD-4085-96C0-94C42442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48D-7FAE-4E77-AA18-57E382B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706-01F0-4FFF-BE35-08A9716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609-5C8D-4485-8CEF-FA64CEFD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9A076-9C7F-4063-888C-B45A437BF1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